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C78-ECB2-40A5-B4AF-56FAA7F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414-CDFF-41A9-8E72-24F30313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781-95F3-46A8-86CC-559FA752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9CA-0A29-4A1B-BD1B-B5AB04BB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A4E-EBD1-437F-A228-2E757F6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CB5-7D2A-423F-8E74-EE9E75E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1DB-4FF1-4416-9497-B0FC782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355-C34F-4A02-A340-07EE2AB1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5AE-ACAD-4565-B0CE-3F0F75A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392-64DD-4623-9B4D-2D9F249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CE7-DE1D-4178-A4E3-5EADEE3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787-2029-41D6-B639-D0492C31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BD3-A6F2-4484-8B05-C37673AD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ffffcc">
              <a:alpha val="7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Mytholog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Lightning Th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10120" cy="480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3814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6880"/>
            <a:ext cx="48006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ttle of the Gods and Titans (Titanomoch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hree F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hree Furies (the Kindly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us and the Minot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ron the Cent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mphs and Nai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lympian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rriage of Zeus and H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arden of the Hesper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vision of the world by Zeus, Poseidon and H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Slays the 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596880"/>
            <a:ext cx="4114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the City of Athens got it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rg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eus and Med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d 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mean 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hon and Echi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erophon and the Chi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achne and the Weaving Con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s and Aphrod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rriage of Hephaestus and Aphrod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nd of the Lotus Eaters (from the Odyss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ojan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us’ Journey to Athens (Procrustes the Stret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ph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cules and Cerb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on the Ferryman &amp; the Gates of the Under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der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e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ths Related to the Novel (by chap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use multimedia to create a presentation summarizing a myth and pointing out the key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5383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5560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62320" y="1676520"/>
            <a:ext cx="4038480" cy="314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ei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i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ac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unit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provided with an overview of Greek mythology and the important role it played in that ancient civi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219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assigned a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676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the myth and use graphic organizers to find key elements such as setting, characters, characterization, setting, theme, plot, and natural phenomenon explained in the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590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Power Point, Movie Maker, or Photo Story 3 to create their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276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appropriate images to create their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657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 out their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appropriate audio and or visual effects for their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724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the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105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pare a note-taking guide for the class and five questions about their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715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 their myths to the class with appropriate no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SEs/GLEs and Technology Goals We Wi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–8–2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response to liter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informationa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tudent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how understanding of plot/ideas/conce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–8–2.1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lecting and summarizing key ide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et contex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emonst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itial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derstanding of elements of literary tex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.1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dentify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escribing character(s), setting, problem/solution, or plots/subplo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s appropriate to text; or identifying any significant changes in character or setting over time; or identifying rising action, climax, or falling a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.2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Paraphrasing or summarizing key ideas/pl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ith major events sequenced, as appropriate to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Educational Technology Standards (NETS•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erformance Indicators fo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reativity and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pply existing knowledge to generate new ideas, products, or proces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reate original works as a means of personal or group exp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23:36:31Z</dcterms:created>
  <dc:creator>mom</dc:creator>
  <dc:description/>
  <dc:language>en-US</dc:language>
  <cp:lastModifiedBy>Administrator</cp:lastModifiedBy>
  <dcterms:modified xsi:type="dcterms:W3CDTF">2009-07-16T17:14:34Z</dcterms:modified>
  <cp:revision>7</cp:revision>
  <dc:subject/>
  <dc:title>Greek Mythology and The Lightning Thief by Rick Riordan</dc:title>
</cp:coreProperties>
</file>